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1DCC5-AB75-4B65-8C06-1DBD1CE2DE9D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2257E-B515-4B54-B74F-EF42081B840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F767-5223-4473-A8A9-F79471D01F49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20427-3698-444E-9EFF-B439BCD39EA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6C3B-FA52-46AB-A50B-DD78E25C1F9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46DA-63C8-45F3-82DC-2C7EB9606FD7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8AB-4156-4603-A073-DF837413AB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9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BBDD7-D8EF-4BF5-B033-A8705D99706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36A3-FEF1-4011-8BBD-EFBF4B501206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4BEE-FED9-4F3E-97DE-80B8B732136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4811-AE05-43E1-8F42-3DB6CA94CB8D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9010-BFD3-4EC5-8474-D2ABD2BB9D12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1BCA8-B7EA-46FF-B8C0-48FAE090B85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3E146-E2C8-4D41-AF2E-89723BC5F72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1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6B02-48CD-4ED1-8F5C-39663A74F53E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52CF-C98A-4CE8-9D7A-DA6F38CDF43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E4DD-2B61-4A2C-A1F7-75F6B82227E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2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A187-D781-4444-A9D0-C8FDBB51AC98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3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3489-9CE7-43BA-A3D5-0AB974C275D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26B8-11FA-46B5-92C5-B243F99853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3253B-EBE5-42F7-847D-D73E97109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C6BEA-502E-478F-9B77-8E1427B2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4FBB8-5194-4F28-A991-4DCE50800F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5E927-2B5E-49F3-A955-6D4837178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D6CB0-719B-4075-96E8-E1C937679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8D6D7-554E-464E-9DBA-FC5A4F13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4F388-AA3D-4F75-AD92-8BA8A069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DA517-8187-4720-B9AF-6878E0E78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9282-5A21-476E-ADA3-728F32A7E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00356-EF0E-4328-8C05-E149815BC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86D0-82FE-41BF-9A4E-C113F4C36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E849-DD8A-4340-942D-2DB79D59BF6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276640"/>
            <a:ext cx="6050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四章  乳房疾病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医疗诊断为急性乳腺炎，给予青霉素治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乳房皮肤变成暗红，右侧乳房可触及一波动肿块，穿刺抽出黄绿色脓液，拟行脓肿切开引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汁淤积、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过高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腺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乳房脓肿、乳瘘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停止哺乳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8920" y="2205000"/>
            <a:ext cx="6769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4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囊性增生病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mastopathy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实质的良性增生，常见于中青年女性。增生可发生于腺管周围并伴有大小不等的囊肿形成；或腺管内表现为不同程度的乳头状增生，伴乳管囊性扩张；也有发生于小叶实质者，主要为乳管及腺泡上皮增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胀痛：周期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红外线透照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主要是对症治疗，常用中药或中成药调理，如口服中药逍遥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碘剂、激素和维生素类药物进行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因本病有癌变可能，应坚持定期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腺体增生及雌激素水平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乳腺囊性增生病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症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物应用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列举急性乳腺炎、乳腺癌发病的相关因素、辅助检查方法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描述急性乳腺炎、乳腺囊性增生病、乳腺肿瘤的临床表现和治疗原则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释乳腺癌患者出现酒窝征、橘皮征的原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比较乳腺癌不同手术方式的特点及可能出现的并发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急性乳腺炎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评估乳腺癌患者并为其制订护理计划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0" lang="en-US" sz="48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0" lang="zh-CN" sz="4800" spc="-1" strike="noStrike">
                <a:solidFill>
                  <a:srgbClr val="ffffff"/>
                </a:solidFill>
                <a:latin typeface="华文新魏"/>
              </a:rPr>
              <a:t>乳房肿瘤</a:t>
            </a:r>
            <a:endParaRPr b="0" lang="en-US" sz="48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痛性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下手术切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与担心乳房肿块可能为恶性肿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肿块切除术后伤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乳腺纤维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告知患者乳房纤维腺瘤是青年女性常见的乳房良性肿瘤，极少发生恶变。手术一般在门诊手术室进行，术后常规作肿块病理检查。但由于乳房纤维腺瘤术后有复发可能，纤维腺瘤的复发会给患者带来较大的心理压力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头溢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发生乳腺癌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房手术切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乳管内乳头状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出现无痛性乳头溢血后会担心乳腺癌的发生，溢液污染衣物也为患者的工作、生活带来很大不便，建议患者尽快就诊，接受治疗。接受手术治疗的患者，围术期护理参考乳腺癌手术前、后相关护理内容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乳腺癌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reast cancer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女性最常见的恶性肿瘤之一，占全身恶性肿瘤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％，仅次于子宫颈癌，发病呈逐年上升的趋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，偶然发现左乳房外上象限无痛性肿块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周，无乳头溢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体检：左乳房外上略隆起，表浅静脉充盈，可见局部皮肤凹陷，乳头向外上歪斜，双乳头不在同一水平线上。左乳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点处距乳头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触及一直径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肿块，表面不光滑、质硬、无压痛，活动度小，与表面皮肤有少许粘连，与胸大肌无粘连。左侧腋窝可扪及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小肿大的淋巴结，光滑、活动、较硬。右乳未触及肿块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钼靶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：左乳房外上象限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c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大肿块影，边缘有细小毛刺，肿块内可见细小钙化灶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针吸细胞学检查示：浸润性中分化导管癌；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g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HER2 3+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276640"/>
            <a:ext cx="6913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54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54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为无痛、单发的小肿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外形改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累及乳房悬韧带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ooper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韧带）可使之缩短，引起乳房表面皮肤凹陷，形成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酒窝征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当癌肿继续增大，癌细胞可阻塞于皮下、皮内淋巴管引起局部淋巴水肿，由于皮肤在毛囊处与皮下组织连接紧密，毛囊处出现凹陷，皮肤出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橘皮样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改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50560" y="1196640"/>
            <a:ext cx="878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晚期征象及转移表现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卫星结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铠甲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特殊乳癌表现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炎性乳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inflammatory breast carcinom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头湿疹样乳腺癌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aget’s carcinoma of breas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近红外线扫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组织病理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清学检查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经婚育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习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家族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50560" y="119664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扩大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xtensive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乳腺癌改良根治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modified radic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乳房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otal mastectomy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留乳房的乳腺癌切除术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lumpectomy and axillary dissection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化学药物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hem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放射治疗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adiotherap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物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2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明确诊断为乳腺癌，给予紫杉醇及顺铂联合化疗，同时行曲妥珠单抗治疗，经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疗程术前化疗，肿块明显缩小，之后行左乳腺癌改良根治术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术后可能出现哪些并发症？②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身体意象紊乱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乳癌根治术切除乳房、术后瘢痕形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进食、卫生、如厕）自理缺陷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术后患侧上肢活动受限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出血、患侧上肢水肿（淋巴水肿）、皮下积液、皮瓣坏死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前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停止妊娠或哺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伤口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侧上肢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预防性抬高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性乳腺炎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cute mastiti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乳腺的急性化脓性感染，多见于产后哺乳妇女，初产妇更为多见，发病多在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功能锻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就可以开始腕部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后开始肘部活动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上举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外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待腋下引流管拔除之后，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可教患者逐渐作上臂的全范围关节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患侧上肢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坚持放疗、化疗和服用三苯氧胺，定期去医院复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乳腺癌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坚持乳房自我检查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reast self-examinatio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站在镜前观察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平卧或侧卧触摸乳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乳头及腋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性乳腺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有乳汁淤积和细菌入侵。多发生与初产妇，产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~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 主要表现为乳房红、肿、热、痛，可触到胀痛性肿块，患侧腋下淋巴结可肿大、压痛，后期炎症病灶可形成乳房脓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早期使用抗生素治疗，脓肿形成后应及时切开引流。应注意消除乳汁淤积，必要时终止泌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尤其应注意避免乳汁淤积，防止乳头损伤，以预防急性乳腺炎的发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囊性增生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因 与内分泌功能紊乱有关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周期性乳房胀痛及多发性乳房肿块，少数患者有乳头溢液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治疗原则 对症治疗为主，辅以自我调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护理 注意调节情绪，做好定期随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肿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纤维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与雌激素水平的增高有关。表现为无痛性乳房肿块，质韧有弹性，表面光滑，活动度大、易推动。可行肿块切除术。注意缓解患者心理压力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管内乳头状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多见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的经产妇，乳头溢液为主要临床表现。应及早手术切除，做好心理护理及术前后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乳腺癌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：不明，相关因素有内分泌因素、饮食因素、遗传因素、疾病因素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：早期表现为乳房肿块，无痛、质硬、活动度差、边界不清。患侧腋窝淋巴结肿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：以手术治疗为主，辅以化疗、放疗、内分泌治疗等综合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：术前应关注患者的心理反应；术后注意观察伤口及引流情况，及时发现出血、患侧上肢水肿、皮瓣下积液、皮瓣坏死等并发症，加强患侧上肢功能锻炼，恢复患者的自理能力。另外，应教会健康女性以及患者乳房自我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产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右侧乳房红肿，局部皮温高，发热。查体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 39.5℃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双乳不对称，右侧乳房肿胀明显，乳头内陷，皮肤红肿，皮下静脉怒张，触诊压痛明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请问：该患者最可能的诊断是什么？为什么？主要处理措施有哪些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年轻女性，产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单侧乳房红、肿、热、痛，体温升高，且有乳头内陷，应首先考虑因乳汁淤积导致急性乳腺炎，可行血常规检查，若出现白细胞升高、中性粒细胞比例升高可支持该诊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患者尚处于炎症早期，应保持乳头清洁，每次哺乳后排空乳汁；局部热敷，缓解疼痛，促进炎症消散，同时，可遵医嘱应用抗生素。高热时给予物理降温，必要时给予解热镇痛药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因右侧乳腺癌在全麻下行乳腺癌改良根治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7.4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8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5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胸部用绷带加压包扎，皮瓣下置引流管持续引流，患者诉伤口疼痛，且现在不能自己洗漱、进餐、如厕等，患者向家人和护士诉说不能接受一侧乳房切除的事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目前患侧上肢的护理要点及功能锻炼方法是什么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1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初产妇，剖宫产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出现双乳肿胀、疼痛，乳汁排泄不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9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9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20/8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双乳肿胀，红、热，可触及多个肿块，压痛明显，边界不清，无波动感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13.1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中性粒细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该患者护理评估内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该患者术后第一天，伤口和引流护理以及生活护理是护理的重点，目前该患者诉伤口疼痛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疼痛：与乳腺癌改良根治术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不能自己洗漱、进餐、如厕等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（进食、卫生、如厕）自理缺陷：与伤口加压包扎、肢体制动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；此外，患者向家人和护士诉说不能接受一侧乳房切除的事实，存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身体意象紊乱：与手术切除乳房有关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目前患者为术后第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天，因伤口局部加压包扎，应注意观察患侧肢体远端的血运状况以及时发现绷带包扎过紧；为预防肢体水肿，应抬高患侧上肢，下床活动时应使用吊带托扶手臂；应活动手指及腕部，以防肢体功能障碍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常发生的部位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及乳晕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外下象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上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内下象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根治术后患者的护理措施中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侧上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侧胸壁加压包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保持引流管通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早期活动患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在患肢测血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确定乳腺肿块性质最可靠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触诊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溢液涂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房钼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线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活组织病理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腺癌最早的临床表现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皮肤呈桔皮样改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内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痛性肿块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乳头有血性溢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表面皮肤出现凹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最好在月经开始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~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~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~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~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~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自我检查时，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不正确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的方法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患者取坐位，两臂自然下垂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指掌面平放于乳房上顺序触诊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用手指抓捏检查乳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依次检查乳房的五个区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包括应检查两侧腋窝淋巴结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乳房脓肿的确诊依据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搏动性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穿刺有脓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寒战、高热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白细胞升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有波动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症状 ：乳房胀痛，全身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胀痛性肿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腋下淋巴结肿大、压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房脓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常规可见白细胞计数及中性粒细胞比例升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诊断性穿刺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抽出脓液可确诊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超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了解脓肿的数目、部位和大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汁淤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细菌入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急性乳腺炎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抗菌药应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脓肿形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终止泌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3:23:47Z</dcterms:modified>
  <cp:revision>86</cp:revision>
  <dc:subject/>
  <dc:title>内科护理学</dc:title>
</cp:coreProperties>
</file>